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689-E626-4591-BDDA-2DC7313C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7D3-32FD-4620-8FF0-CF0EB5C8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F1D-D766-4BE4-B39F-010448AD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B06-3D68-4ABB-ABF5-6FE06BE0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0AFB-9310-47B6-9C0E-32CBB5D5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8D2E-EA82-4E49-9DBA-AD6BFA53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8843-B69C-40EA-9170-9C494734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AD9F-E96D-4C59-B3EA-1049AAE7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7833-6243-4792-998A-B8DD466A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E0A6-E517-47E0-9D43-2938A310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8F86-BD9F-4F3E-A771-89AB961F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483-BC45-4108-B0B7-61F10C7E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ADE8-5B15-44E5-9AEC-F6E028AC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25A4-D804-4EB1-9E59-F79A482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07A8-0551-4C78-8EA7-4A9B68D6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E293-FC13-47C5-A28D-1A96D9AA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5477-B182-43A6-93C0-59BD962E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FFC7-FCB9-4A2C-9449-341E0548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A27C-1599-4772-93E9-34430563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FB20-42F5-451B-81EA-DC6F2B9A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5DD3-A8F4-4C22-94B6-4964406C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D382-5D56-46D7-8D2D-0A562EA2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628-E140-4F1C-8D0A-8F69C6F9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CC05-3F63-485E-AEF0-6A975041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ECE62-C441-45DB-8FC0-A2E7D7C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C20F-5C73-4FF3-8B3F-45F0207F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1DAE-13F1-4EDD-9911-601216E8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8528-6005-46B4-81D4-7C47E169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62A0-FD52-4E93-8DFB-9788DDA9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01D30-2519-4BB0-B29C-48E75B45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A40C-8D17-4CBE-9E3C-3CB51B1D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D4D1-A77C-4236-ADCF-E196F674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FE6CF-BEF9-415A-AE75-7A29D4A9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89E-0693-4DAC-AEE8-B38E81F0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827C-D0D7-4639-8FB7-A93B5AB7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86BA-0CB8-4330-A182-0A043B29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33AF5-926A-4C29-B15C-D5247BFE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E749-5871-4CDF-AFCD-1A95683F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750E-59FB-4006-8D83-173CCA2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E0B2-9238-4F9B-B0B0-399EBCE3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DB0DA-0551-4996-A7CF-67175A58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2AE93-CC27-46A6-8BB5-035066DA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915D7-7D47-4856-B52F-5B09D7FF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899-049D-4A67-B912-B4BB04F2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282-97FE-453A-B60F-93D2E6C7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C0D-50A1-4328-B7C8-0FF2855E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0B0-B5E3-4A4A-A971-37F6B9A0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B65-DD85-4248-AE72-5F9ACB6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43D9-9C90-4BB9-88BF-05ADFF104441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B75A-6638-4F57-B55B-79325351E380}" type="slidenum">
              <a:rPr b="0" lang="ru-RU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E1BA-402A-43B9-892F-9B95CE937844}" type="slidenum">
              <a:rPr b="0" lang="ru-RU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DC63-B42D-445F-BBAE-EDBCAA4A1D90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5" descr=""/>
          <p:cNvPicPr/>
          <p:nvPr/>
        </p:nvPicPr>
        <p:blipFill>
          <a:blip r:embed="rId2"/>
          <a:stretch/>
        </p:blipFill>
        <p:spPr>
          <a:xfrm>
            <a:off x="987480" y="1395360"/>
            <a:ext cx="7589880" cy="46148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2653920" y="5786280"/>
            <a:ext cx="44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6ba"/>
                </a:solidFill>
                <a:latin typeface="Times New Roman"/>
                <a:ea typeface="Times New Roman"/>
              </a:rPr>
              <a:t>Выполнил студент 143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6ba"/>
                </a:solidFill>
                <a:latin typeface="Times New Roman"/>
                <a:ea typeface="Times New Roman"/>
              </a:rPr>
              <a:t>Фомин Дмитр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441080" y="142920"/>
            <a:ext cx="62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 почему же светит Солнц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285840" y="2214720"/>
            <a:ext cx="2357280" cy="24890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2643120" y="714240"/>
            <a:ext cx="6286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ая энергия образуется в процессе термоядерного синтеза. Под воздействием чудовищного давления в центре Солнца атомы водорода настолько сближаются, что их ядра начинают соединяться друг с другом. В результате из четырех водородных ядер, получается (синтезируется) одно ядро гелия. При этом выделяется огромное количество энергии! Иначе говоря, Солнце светит благодаря тому, что в его недрах каждую секунду 584 миллиона тонн водорода превращается в 560 миллионов тонн г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214200" y="357120"/>
            <a:ext cx="87868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есное о Солн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це в 750 раз превосходит по массе все остальные тела Солнечной системы вместе взятые. На солнечном диаметре можно было бы разместить цепочку из 109 таких планет, как н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ждую секунду на поверхность Земли Солнце изливает энергию, для выработки которой потребовалось бы 150 миллионов мощных электростан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  Ежесекундно с его поверхности излучается такое количество тепла, которого было бы вполне достаточно, чтобы растопить слой льда толщиной в тысячу километров, окружающий шар, равный по размерам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1619280" y="0"/>
            <a:ext cx="633744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РОССВОРД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4105080" cy="4824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4572000" y="1773360"/>
            <a:ext cx="435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4"/>
          <p:cNvSpPr/>
          <p:nvPr/>
        </p:nvSpPr>
        <p:spPr>
          <a:xfrm>
            <a:off x="357120" y="428760"/>
            <a:ext cx="842976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автора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ект рассчитан для учащихся 10 – 11 классов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может быть применен при изучении тем по физике, связанных с энергией, а также при изучении курса астрономии. В процессе изучения проекта учащиеся познакомятся со строением Солнца, с солнечной энергией, выполнят несколько лабораторных работ и в конце сделают вывод, будет ли солнечная энергия – энергией будущего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4537080" cy="3838680"/>
          </a:xfrm>
          <a:prstGeom prst="rect">
            <a:avLst/>
          </a:prstGeom>
          <a:ln w="0">
            <a:noFill/>
          </a:ln>
        </p:spPr>
      </p:pic>
      <p:sp>
        <p:nvSpPr>
          <p:cNvPr id="231" name="WordArt 7"/>
          <p:cNvSpPr txBox="1"/>
          <p:nvPr/>
        </p:nvSpPr>
        <p:spPr>
          <a:xfrm>
            <a:off x="2556000" y="486900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Удачи вам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500040" y="107172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ногие специалисты полагают, что уже к 2020 году топлива потребуется в три с половиной раза больше, чем сегодня. Человечество с такой скоростью тратит ископаемые источники энергии, что восстанавливаться они никак не успевают. Пора бы и задуматься о замене "ископаемой энергии". Где же брать энерг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57120" y="428760"/>
            <a:ext cx="83581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е изучения проекта в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   Расширите свои знания о Солнце, о вращении Земли вокруг Солнца и своей оси, о пользе и его вредных воздействиях н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   Поймете, что без Солнца человек не смог бы достичь даже самой малой доли того, что он сейчас умеет дел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   Поставите перед собой проблему о альтернативных источниках энерг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357120" y="428760"/>
            <a:ext cx="85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   Познакомитесь с понятием «проблема», научитесь выявлять проблему, проектировать ее решение и исслед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   Научитесь отбирать нужный по теме матери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   Научитесь высказывать свое мнение, анализировать, видеть главное, делать об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"/>
          <p:cNvSpPr/>
          <p:nvPr/>
        </p:nvSpPr>
        <p:spPr>
          <a:xfrm>
            <a:off x="571680" y="71424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ополагающий вопрос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мы будем делать, когда закончится «черное золото»?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357120" y="642960"/>
            <a:ext cx="842976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ные вопросы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ционально ли используют в России нефть и г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олго ли хватит нефти и га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заменит нам нефть и газ в будущ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стало бы с Землей, если бы Солнце пога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менит ли нам Солнце нефть и г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чему Солнце гре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357120" y="785880"/>
            <a:ext cx="83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ые вопросы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Какие источники энергии вы зна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Что вы знаете о солнечной энерг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Солнце – в чем его вред и поль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Солнечный свет  - что это тако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864720" y="714240"/>
            <a:ext cx="78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можно «поймать» солнечную энерг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4" descr=""/>
          <p:cNvPicPr/>
          <p:nvPr/>
        </p:nvPicPr>
        <p:blipFill>
          <a:blip r:embed="rId1"/>
          <a:stretch/>
        </p:blipFill>
        <p:spPr>
          <a:xfrm>
            <a:off x="500040" y="2643120"/>
            <a:ext cx="3500640" cy="2857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6072120" y="3714840"/>
            <a:ext cx="2635200" cy="2357280"/>
          </a:xfrm>
          <a:prstGeom prst="rect">
            <a:avLst/>
          </a:prstGeom>
          <a:ln w="0">
            <a:noFill/>
          </a:ln>
        </p:spPr>
      </p:pic>
      <p:sp>
        <p:nvSpPr>
          <p:cNvPr id="207" name="Стрелка вправо 6"/>
          <p:cNvSpPr/>
          <p:nvPr/>
        </p:nvSpPr>
        <p:spPr>
          <a:xfrm rot="20743800">
            <a:off x="2991960" y="3474720"/>
            <a:ext cx="2721240" cy="27288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ffff00"/>
          </a:solidFill>
          <a:ln w="399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трелка вправо 9"/>
          <p:cNvSpPr/>
          <p:nvPr/>
        </p:nvSpPr>
        <p:spPr>
          <a:xfrm rot="1350000">
            <a:off x="2874600" y="4881600"/>
            <a:ext cx="2792520" cy="2746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00"/>
          </a:solidFill>
          <a:ln w="399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3"/>
          <a:stretch/>
        </p:blipFill>
        <p:spPr>
          <a:xfrm>
            <a:off x="6072120" y="1357200"/>
            <a:ext cx="2643120" cy="1957680"/>
          </a:xfrm>
          <a:prstGeom prst="rect">
            <a:avLst/>
          </a:prstGeom>
          <a:ln w="0">
            <a:noFill/>
          </a:ln>
        </p:spPr>
      </p:pic>
      <p:sp>
        <p:nvSpPr>
          <p:cNvPr id="210" name="Стрелка вправо 12"/>
          <p:cNvSpPr/>
          <p:nvPr/>
        </p:nvSpPr>
        <p:spPr>
          <a:xfrm rot="20062200">
            <a:off x="2711520" y="2860200"/>
            <a:ext cx="2720880" cy="2746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399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трелка вправо 13"/>
          <p:cNvSpPr/>
          <p:nvPr/>
        </p:nvSpPr>
        <p:spPr>
          <a:xfrm rot="189600">
            <a:off x="3076560" y="4219560"/>
            <a:ext cx="2792520" cy="2746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00"/>
          </a:solidFill>
          <a:ln w="399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2928960" y="135720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о – ветровая энергоу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3219120" y="578628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"/>
          <p:cNvSpPr/>
          <p:nvPr/>
        </p:nvSpPr>
        <p:spPr>
          <a:xfrm>
            <a:off x="357120" y="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можно применить солнечную энергию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285840" y="2071800"/>
            <a:ext cx="2857320" cy="2190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6000840" y="2071800"/>
            <a:ext cx="2857320" cy="2190600"/>
          </a:xfrm>
          <a:prstGeom prst="rect">
            <a:avLst/>
          </a:prstGeom>
          <a:ln w="0">
            <a:noFill/>
          </a:ln>
        </p:spPr>
      </p:pic>
      <p:sp>
        <p:nvSpPr>
          <p:cNvPr id="218" name="Стрелка вверх 7"/>
          <p:cNvSpPr/>
          <p:nvPr/>
        </p:nvSpPr>
        <p:spPr>
          <a:xfrm rot="10800000">
            <a:off x="4500360" y="1357200"/>
            <a:ext cx="214200" cy="292896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0070c0"/>
          </a:solidFill>
          <a:ln w="399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лево 10"/>
          <p:cNvSpPr/>
          <p:nvPr/>
        </p:nvSpPr>
        <p:spPr>
          <a:xfrm rot="19201800">
            <a:off x="2643120" y="135684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2da2bf"/>
          </a:solidFill>
          <a:ln w="399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лево 11"/>
          <p:cNvSpPr/>
          <p:nvPr/>
        </p:nvSpPr>
        <p:spPr>
          <a:xfrm rot="12832200">
            <a:off x="5481720" y="130284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2da2bf"/>
          </a:solidFill>
          <a:ln w="399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4"/>
          <a:stretch/>
        </p:blipFill>
        <p:spPr>
          <a:xfrm>
            <a:off x="3143160" y="442908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1:07:54Z</dcterms:created>
  <dc:creator>Маша</dc:creator>
  <dc:description/>
  <dc:language>en-US</dc:language>
  <cp:lastModifiedBy>Маша</cp:lastModifiedBy>
  <dcterms:modified xsi:type="dcterms:W3CDTF">2010-04-19T15:32:54Z</dcterms:modified>
  <cp:revision>31</cp:revision>
  <dc:subject/>
  <dc:title>Слайд 1</dc:title>
</cp:coreProperties>
</file>